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20E9-EEC1-44B4-AB4A-47E0461E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3E22-DC37-45FF-B499-0CF878E3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543F-B003-48A9-A914-F6A04237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0797-3EB3-4610-99F8-33240B091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1B56-A97B-417B-9B69-75A689F1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86B-8701-4BDE-ADA4-C09B5DDA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807-65FD-417A-B09A-4B4FF6BC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1F2-1B5A-488D-BD87-55B6621A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71B-39B0-4750-B028-4DCEFE05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688-1FB5-4A5F-B70A-19BABFFA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8D2C-39F9-4A6A-95E9-F0D6FF9F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C4B4-E159-4F9A-B4E2-428D76806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9CAE-15DA-4981-BE11-4C8D5DB84E3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infonía Pastoral.mp3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6"/>
          <p:cNvGrpSpPr/>
          <p:nvPr/>
        </p:nvGrpSpPr>
        <p:grpSpPr>
          <a:xfrm>
            <a:off x="3200400" y="533520"/>
            <a:ext cx="4648320" cy="5656320"/>
            <a:chOff x="3200400" y="533520"/>
            <a:chExt cx="4648320" cy="5656320"/>
          </a:xfrm>
        </p:grpSpPr>
        <p:pic>
          <p:nvPicPr>
            <p:cNvPr id="43" name="Picture 4" descr="C:\Chollo\CULTURA CLÁSICA\Beethoven, L. van.jpg"/>
            <p:cNvPicPr/>
            <p:nvPr/>
          </p:nvPicPr>
          <p:blipFill>
            <a:blip r:embed="rId2"/>
            <a:stretch/>
          </p:blipFill>
          <p:spPr>
            <a:xfrm>
              <a:off x="3809880" y="533520"/>
              <a:ext cx="342900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5"/>
            <p:cNvSpPr/>
            <p:nvPr/>
          </p:nvSpPr>
          <p:spPr>
            <a:xfrm>
              <a:off x="3200400" y="4876920"/>
              <a:ext cx="46483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Thehits"/>
                </a:rPr>
                <a:t>LUDWIG VAN BEETHOVE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027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Ulises (orixinal).mp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79" name="Ulises (español).mp3" descr=""/>
          <p:cNvPicPr/>
          <p:nvPr/>
        </p:nvPicPr>
        <p:blipFill>
          <a:blip r:embed="rId2"/>
          <a:stretch/>
        </p:blipFill>
        <p:spPr>
          <a:xfrm>
            <a:off x="7010280" y="48006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Chollo\CULTURA CLÁSICA\Ulysses.gif"/>
          <p:cNvPicPr/>
          <p:nvPr/>
        </p:nvPicPr>
        <p:blipFill>
          <a:blip r:embed="rId3"/>
          <a:stretch/>
        </p:blipFill>
        <p:spPr>
          <a:xfrm>
            <a:off x="2743200" y="990720"/>
            <a:ext cx="3933720" cy="4890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3341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3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252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hungry.wav" descr=""/>
          <p:cNvPicPr/>
          <p:nvPr/>
        </p:nvPicPr>
        <p:blipFill>
          <a:blip r:embed="rId1"/>
          <a:stretch/>
        </p:blipFill>
        <p:spPr>
          <a:xfrm>
            <a:off x="7010280" y="2209680"/>
            <a:ext cx="1905120" cy="190512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609480" y="304920"/>
            <a:ext cx="6324840" cy="6265800"/>
            <a:chOff x="609480" y="304920"/>
            <a:chExt cx="6324840" cy="6265800"/>
          </a:xfrm>
        </p:grpSpPr>
        <p:pic>
          <p:nvPicPr>
            <p:cNvPr id="83" name="Picture 3" descr="C:\Chollo\CULTURA CLÁSICA\que el viento se llevó, Lo.jpg"/>
            <p:cNvPicPr/>
            <p:nvPr/>
          </p:nvPicPr>
          <p:blipFill>
            <a:blip r:embed="rId2"/>
            <a:stretch/>
          </p:blipFill>
          <p:spPr>
            <a:xfrm>
              <a:off x="1066680" y="304920"/>
              <a:ext cx="5519880" cy="42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4"/>
            <p:cNvSpPr/>
            <p:nvPr/>
          </p:nvSpPr>
          <p:spPr>
            <a:xfrm>
              <a:off x="609480" y="4648320"/>
              <a:ext cx="63248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Love"/>
                </a:rPr>
                <a:t>LO QUE EL VIENTO SE LLEVÓ / FOISE CO VENT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4863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Negra sombra.mp3" descr=""/>
          <p:cNvPicPr/>
          <p:nvPr/>
        </p:nvPicPr>
        <p:blipFill>
          <a:blip r:embed="rId1"/>
          <a:stretch/>
        </p:blipFill>
        <p:spPr>
          <a:xfrm>
            <a:off x="457200" y="4495680"/>
            <a:ext cx="1981080" cy="198144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5"/>
          <p:cNvGrpSpPr/>
          <p:nvPr/>
        </p:nvGrpSpPr>
        <p:grpSpPr>
          <a:xfrm>
            <a:off x="3886200" y="609480"/>
            <a:ext cx="4419720" cy="5961240"/>
            <a:chOff x="3886200" y="609480"/>
            <a:chExt cx="4419720" cy="5961240"/>
          </a:xfrm>
        </p:grpSpPr>
        <p:pic>
          <p:nvPicPr>
            <p:cNvPr id="87" name="Picture 3" descr="C:\Chollo\CULTURA CLÁSICA\De Castro, R.jpg"/>
            <p:cNvPicPr/>
            <p:nvPr/>
          </p:nvPicPr>
          <p:blipFill>
            <a:blip r:embed="rId2"/>
            <a:stretch/>
          </p:blipFill>
          <p:spPr>
            <a:xfrm>
              <a:off x="4419720" y="609480"/>
              <a:ext cx="3317760" cy="44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4"/>
            <p:cNvSpPr/>
            <p:nvPr/>
          </p:nvSpPr>
          <p:spPr>
            <a:xfrm>
              <a:off x="3886200" y="5257800"/>
              <a:ext cx="4419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Bernard MT Condensed"/>
                </a:rPr>
                <a:t>ROSALÍA DE CASTR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128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onderful World.mp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2057400" cy="20574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5"/>
          <p:cNvGrpSpPr/>
          <p:nvPr/>
        </p:nvGrpSpPr>
        <p:grpSpPr>
          <a:xfrm>
            <a:off x="3352680" y="762120"/>
            <a:ext cx="4592880" cy="5488200"/>
            <a:chOff x="3352680" y="762120"/>
            <a:chExt cx="4592880" cy="5488200"/>
          </a:xfrm>
        </p:grpSpPr>
        <p:pic>
          <p:nvPicPr>
            <p:cNvPr id="91" name="Picture 3" descr="C:\Chollo\CULTURA CLÁSICA\Cooke, S.gif"/>
            <p:cNvPicPr/>
            <p:nvPr/>
          </p:nvPicPr>
          <p:blipFill>
            <a:blip r:embed="rId2"/>
            <a:stretch/>
          </p:blipFill>
          <p:spPr>
            <a:xfrm>
              <a:off x="3352680" y="762120"/>
              <a:ext cx="4592880" cy="46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3429000" y="5546880"/>
              <a:ext cx="441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Copperplate Gothic Bold"/>
                </a:rPr>
                <a:t>SAM COOK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2494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weet Little Angel.mp3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5"/>
          <p:cNvGrpSpPr/>
          <p:nvPr/>
        </p:nvGrpSpPr>
        <p:grpSpPr>
          <a:xfrm>
            <a:off x="1219320" y="609480"/>
            <a:ext cx="4419360" cy="5640840"/>
            <a:chOff x="1219320" y="609480"/>
            <a:chExt cx="4419360" cy="5640840"/>
          </a:xfrm>
        </p:grpSpPr>
        <p:pic>
          <p:nvPicPr>
            <p:cNvPr id="95" name="Picture 3" descr="C:\Chollo\CULTURA CLÁSICA\King, B. B.jpg"/>
            <p:cNvPicPr/>
            <p:nvPr/>
          </p:nvPicPr>
          <p:blipFill>
            <a:blip r:embed="rId2"/>
            <a:stretch/>
          </p:blipFill>
          <p:spPr>
            <a:xfrm>
              <a:off x="1295280" y="609480"/>
              <a:ext cx="420696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4"/>
            <p:cNvSpPr/>
            <p:nvPr/>
          </p:nvSpPr>
          <p:spPr>
            <a:xfrm>
              <a:off x="1219320" y="5546880"/>
              <a:ext cx="441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Kristen ITC"/>
                </a:rPr>
                <a:t>B. B. KI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256889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arthquake 2.mp3" descr=""/>
          <p:cNvPicPr/>
          <p:nvPr/>
        </p:nvPicPr>
        <p:blipFill>
          <a:blip r:embed="rId1"/>
          <a:stretch/>
        </p:blipFill>
        <p:spPr>
          <a:xfrm>
            <a:off x="457200" y="4724280"/>
            <a:ext cx="1752480" cy="175284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5"/>
          <p:cNvGrpSpPr/>
          <p:nvPr/>
        </p:nvGrpSpPr>
        <p:grpSpPr>
          <a:xfrm>
            <a:off x="2514600" y="457200"/>
            <a:ext cx="6134040" cy="5793120"/>
            <a:chOff x="2514600" y="457200"/>
            <a:chExt cx="6134040" cy="5793120"/>
          </a:xfrm>
        </p:grpSpPr>
        <p:pic>
          <p:nvPicPr>
            <p:cNvPr id="99" name="Picture 3" descr="C:\Chollo\CULTURA CLÁSICA\Pompeya.gif"/>
            <p:cNvPicPr/>
            <p:nvPr/>
          </p:nvPicPr>
          <p:blipFill>
            <a:blip r:embed="rId2"/>
            <a:stretch/>
          </p:blipFill>
          <p:spPr>
            <a:xfrm>
              <a:off x="2514600" y="457200"/>
              <a:ext cx="6134040" cy="49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4"/>
            <p:cNvSpPr/>
            <p:nvPr/>
          </p:nvSpPr>
          <p:spPr>
            <a:xfrm>
              <a:off x="2590920" y="5546880"/>
              <a:ext cx="5943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Petra"/>
                </a:rPr>
                <a:t>POMPEI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7816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he Loves You.mp3" descr=""/>
          <p:cNvPicPr/>
          <p:nvPr/>
        </p:nvPicPr>
        <p:blipFill>
          <a:blip r:embed="rId1"/>
          <a:stretch/>
        </p:blipFill>
        <p:spPr>
          <a:xfrm>
            <a:off x="7238880" y="380880"/>
            <a:ext cx="1447920" cy="144792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5"/>
          <p:cNvGrpSpPr/>
          <p:nvPr/>
        </p:nvGrpSpPr>
        <p:grpSpPr>
          <a:xfrm>
            <a:off x="1219320" y="1447920"/>
            <a:ext cx="5130720" cy="4818240"/>
            <a:chOff x="1219320" y="1447920"/>
            <a:chExt cx="5130720" cy="4818240"/>
          </a:xfrm>
        </p:grpSpPr>
        <p:pic>
          <p:nvPicPr>
            <p:cNvPr id="47" name="Picture 3" descr="C:\Chollo\CULTURA CLÁSICA\Beatles.jpg"/>
            <p:cNvPicPr/>
            <p:nvPr/>
          </p:nvPicPr>
          <p:blipFill>
            <a:blip r:embed="rId2"/>
            <a:stretch/>
          </p:blipFill>
          <p:spPr>
            <a:xfrm>
              <a:off x="1295280" y="1447920"/>
              <a:ext cx="5054760" cy="37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1219320" y="5562720"/>
              <a:ext cx="5105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Forte"/>
                </a:rPr>
                <a:t>THE BEATL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2263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líada (orixinal).mp3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0" name="Ilíada (galego).mp3" descr=""/>
          <p:cNvPicPr/>
          <p:nvPr/>
        </p:nvPicPr>
        <p:blipFill>
          <a:blip r:embed="rId2"/>
          <a:stretch/>
        </p:blipFill>
        <p:spPr>
          <a:xfrm>
            <a:off x="7086600" y="4952880"/>
            <a:ext cx="1523880" cy="15242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6"/>
          <p:cNvGrpSpPr/>
          <p:nvPr/>
        </p:nvGrpSpPr>
        <p:grpSpPr>
          <a:xfrm>
            <a:off x="3124080" y="533520"/>
            <a:ext cx="2962440" cy="5656320"/>
            <a:chOff x="3124080" y="533520"/>
            <a:chExt cx="2962440" cy="5656320"/>
          </a:xfrm>
        </p:grpSpPr>
        <p:pic>
          <p:nvPicPr>
            <p:cNvPr id="52" name="Picture 4" descr="C:\Chollo\CULTURA CLÁSICA\Ilíada.jpg"/>
            <p:cNvPicPr/>
            <p:nvPr/>
          </p:nvPicPr>
          <p:blipFill>
            <a:blip r:embed="rId3"/>
            <a:stretch/>
          </p:blipFill>
          <p:spPr>
            <a:xfrm>
              <a:off x="3200400" y="533520"/>
              <a:ext cx="288612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5"/>
            <p:cNvSpPr/>
            <p:nvPr/>
          </p:nvSpPr>
          <p:spPr>
            <a:xfrm>
              <a:off x="3124080" y="5486400"/>
              <a:ext cx="2895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Castellar"/>
                </a:rPr>
                <a:t>A ILÍAD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8652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7894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Quijote (principio).mp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Chollo\CULTURA CLÁSICA\Quijote, El.jpg"/>
          <p:cNvPicPr/>
          <p:nvPr/>
        </p:nvPicPr>
        <p:blipFill>
          <a:blip r:embed="rId2"/>
          <a:stretch/>
        </p:blipFill>
        <p:spPr>
          <a:xfrm>
            <a:off x="3962520" y="1066680"/>
            <a:ext cx="318924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502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Malagueña.mp3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676520" cy="167652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5"/>
          <p:cNvGrpSpPr/>
          <p:nvPr/>
        </p:nvGrpSpPr>
        <p:grpSpPr>
          <a:xfrm>
            <a:off x="1371600" y="609480"/>
            <a:ext cx="4419720" cy="5808960"/>
            <a:chOff x="1371600" y="609480"/>
            <a:chExt cx="4419720" cy="5808960"/>
          </a:xfrm>
        </p:grpSpPr>
        <p:pic>
          <p:nvPicPr>
            <p:cNvPr id="58" name="Picture 3" descr="C:\Chollo\CULTURA CLÁSICA\Guitarra clásica.jpg"/>
            <p:cNvPicPr/>
            <p:nvPr/>
          </p:nvPicPr>
          <p:blipFill>
            <a:blip r:embed="rId2"/>
            <a:stretch/>
          </p:blipFill>
          <p:spPr>
            <a:xfrm>
              <a:off x="1447920" y="609480"/>
              <a:ext cx="43434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4"/>
            <p:cNvSpPr/>
            <p:nvPr/>
          </p:nvSpPr>
          <p:spPr>
            <a:xfrm>
              <a:off x="1371600" y="5105520"/>
              <a:ext cx="4419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Bradley Hand ITC"/>
                </a:rPr>
                <a:t>GUITARRA CLÁSIC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68069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ócrates (orixinal).mp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Sócrates (galego).mp3" descr=""/>
          <p:cNvPicPr/>
          <p:nvPr/>
        </p:nvPicPr>
        <p:blipFill>
          <a:blip r:embed="rId2"/>
          <a:stretch/>
        </p:blipFill>
        <p:spPr>
          <a:xfrm>
            <a:off x="7391520" y="5181480"/>
            <a:ext cx="1447560" cy="144792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7"/>
          <p:cNvGrpSpPr/>
          <p:nvPr/>
        </p:nvGrpSpPr>
        <p:grpSpPr>
          <a:xfrm>
            <a:off x="3162240" y="1143000"/>
            <a:ext cx="2971800" cy="5504040"/>
            <a:chOff x="3162240" y="1143000"/>
            <a:chExt cx="2971800" cy="5504040"/>
          </a:xfrm>
        </p:grpSpPr>
        <p:pic>
          <p:nvPicPr>
            <p:cNvPr id="63" name="Picture 4" descr="C:\Chollo\CULTURA CLÁSICA\Sócrates.gif"/>
            <p:cNvPicPr/>
            <p:nvPr/>
          </p:nvPicPr>
          <p:blipFill>
            <a:blip r:embed="rId3"/>
            <a:stretch/>
          </p:blipFill>
          <p:spPr>
            <a:xfrm>
              <a:off x="3162240" y="1143000"/>
              <a:ext cx="2971800" cy="39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6"/>
            <p:cNvSpPr/>
            <p:nvPr/>
          </p:nvSpPr>
          <p:spPr>
            <a:xfrm>
              <a:off x="3276720" y="5334120"/>
              <a:ext cx="26668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Mistral"/>
                </a:rPr>
                <a:t>SÓCRATE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5225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384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tairway To Heaven.mp3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1752480" cy="1752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5"/>
          <p:cNvGrpSpPr/>
          <p:nvPr/>
        </p:nvGrpSpPr>
        <p:grpSpPr>
          <a:xfrm>
            <a:off x="3352680" y="609480"/>
            <a:ext cx="5181840" cy="5199480"/>
            <a:chOff x="3352680" y="609480"/>
            <a:chExt cx="5181840" cy="5199480"/>
          </a:xfrm>
        </p:grpSpPr>
        <p:pic>
          <p:nvPicPr>
            <p:cNvPr id="67" name="Picture 3" descr="C:\Chollo\CULTURA CLÁSICA\Led Zeppelin.jpg"/>
            <p:cNvPicPr/>
            <p:nvPr/>
          </p:nvPicPr>
          <p:blipFill>
            <a:blip r:embed="rId2"/>
            <a:stretch/>
          </p:blipFill>
          <p:spPr>
            <a:xfrm>
              <a:off x="3352680" y="609480"/>
              <a:ext cx="5121360" cy="441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4"/>
            <p:cNvSpPr/>
            <p:nvPr/>
          </p:nvSpPr>
          <p:spPr>
            <a:xfrm>
              <a:off x="3352680" y="5105520"/>
              <a:ext cx="5181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Impact"/>
                </a:rPr>
                <a:t>LED ZEPPELI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8013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Eneida (orixinal).mp3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70" name="Eneida (galego).mp3" descr=""/>
          <p:cNvPicPr/>
          <p:nvPr/>
        </p:nvPicPr>
        <p:blipFill>
          <a:blip r:embed="rId2"/>
          <a:stretch/>
        </p:blipFill>
        <p:spPr>
          <a:xfrm>
            <a:off x="7238880" y="5029200"/>
            <a:ext cx="15242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8"/>
          <p:cNvGrpSpPr/>
          <p:nvPr/>
        </p:nvGrpSpPr>
        <p:grpSpPr>
          <a:xfrm>
            <a:off x="3429000" y="1219320"/>
            <a:ext cx="2514600" cy="5503680"/>
            <a:chOff x="3429000" y="1219320"/>
            <a:chExt cx="2514600" cy="5503680"/>
          </a:xfrm>
        </p:grpSpPr>
        <p:pic>
          <p:nvPicPr>
            <p:cNvPr id="72" name="Picture 6" descr="C:\Chollo\CULTURA CLÁSICA\Eneida.jpg"/>
            <p:cNvPicPr/>
            <p:nvPr/>
          </p:nvPicPr>
          <p:blipFill>
            <a:blip r:embed="rId3"/>
            <a:stretch/>
          </p:blipFill>
          <p:spPr>
            <a:xfrm>
              <a:off x="3505320" y="1219320"/>
              <a:ext cx="230328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7"/>
            <p:cNvSpPr/>
            <p:nvPr/>
          </p:nvSpPr>
          <p:spPr>
            <a:xfrm>
              <a:off x="3429000" y="5410080"/>
              <a:ext cx="2514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Colonna MT"/>
                </a:rPr>
                <a:t>A ENEIDA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1134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22152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 Get A Kick Out Of You.mp3" descr=""/>
          <p:cNvPicPr/>
          <p:nvPr/>
        </p:nvPicPr>
        <p:blipFill>
          <a:blip r:embed="rId1"/>
          <a:stretch/>
        </p:blipFill>
        <p:spPr>
          <a:xfrm>
            <a:off x="7162920" y="495288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1066680" y="609480"/>
            <a:ext cx="4724640" cy="5808960"/>
            <a:chOff x="1066680" y="609480"/>
            <a:chExt cx="4724640" cy="5808960"/>
          </a:xfrm>
        </p:grpSpPr>
        <p:pic>
          <p:nvPicPr>
            <p:cNvPr id="76" name="Picture 3" descr="C:\Chollo\CULTURA CLÁSICA\Armstrong, Louis.jpg"/>
            <p:cNvPicPr/>
            <p:nvPr/>
          </p:nvPicPr>
          <p:blipFill>
            <a:blip r:embed="rId2"/>
            <a:stretch/>
          </p:blipFill>
          <p:spPr>
            <a:xfrm>
              <a:off x="1295280" y="609480"/>
              <a:ext cx="4343400" cy="43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4"/>
            <p:cNvSpPr/>
            <p:nvPr/>
          </p:nvSpPr>
          <p:spPr>
            <a:xfrm>
              <a:off x="1066680" y="5105520"/>
              <a:ext cx="4724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000" spc="-1" strike="noStrike">
                  <a:solidFill>
                    <a:srgbClr val="ffffff"/>
                  </a:solidFill>
                  <a:latin typeface="Magneto"/>
                </a:rPr>
                <a:t>LOUIS ARMSTRONG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5924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17:39:38Z</dcterms:created>
  <dc:creator>CARBALLO</dc:creator>
  <dc:description/>
  <dc:language>en-US</dc:language>
  <cp:lastModifiedBy>Usuario</cp:lastModifiedBy>
  <dcterms:modified xsi:type="dcterms:W3CDTF">2020-09-04T09:54:47Z</dcterms:modified>
  <cp:revision>4</cp:revision>
  <dc:subject/>
  <dc:title>Presentación de PowerPoint</dc:title>
</cp:coreProperties>
</file>